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91E-2FB0-461A-9399-66E5BF2D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470-B517-44B3-BF36-805D08A6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507-56A7-4FCC-BA95-64ED4115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790-6169-4FF0-8DB0-595D78E9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349-B8AC-4799-A688-C48C7428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E04-444E-413C-8E57-BE7BCE98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40F-5FE4-4240-8BF8-B3D85BED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0BA-9088-481C-A67B-89105A4C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6FA-4185-48A0-8B66-CA9CFCD8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3F2-F2F7-49C9-8817-D504823F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EB8-5EB7-4D3B-B904-9A509948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B30-754F-42F1-A39F-442B922E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679C-C231-4352-9C0F-95887E530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9360">
            <a:solidFill>
              <a:srgbClr val="ffe701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برنامج مهارات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 مهارات تنفيذ التدريس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ccffff"/>
                </a:solidFill>
                <a:uFillTx/>
                <a:latin typeface="Arial"/>
              </a:rPr>
              <a:t>الهدف العام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أن يكون المتدرب (المعلم) قادرا على أداء المهارات الرئيسة لعملية تنفيذ التدريس بكفاء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تاس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     ( مقدمة عامة 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في صورة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haghr 5 Hor."/>
              </a:rPr>
              <a:t>لفظ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عا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( مقدمة عامة ) في صورة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خريطة مفاهي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حادي ع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: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Monotype Koufi"/>
              </a:rPr>
              <a:t>الأحداث المتناقض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تحديد المقصود بمفهوم جذب انتباه الطل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سباب تشتت انتباه الطلاب عن الدر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ستنتاج العلاقة بين هذه المهارة وتحقيق الأهداف التعلي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مهارة جذب الانتبا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جذب الانتب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cc"/>
                </a:solidFill>
                <a:latin typeface="Arial"/>
              </a:rPr>
              <a:t>عملية يقصد بها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4000" spc="-1" strike="noStrike">
                <a:solidFill>
                  <a:srgbClr val="00ff00"/>
                </a:solidFill>
                <a:latin typeface="Arial"/>
              </a:rPr>
              <a:t>توجيه شعور الطالب أو إدراكه الذهني إلى موقف سلوكي جديد من خلال بعض المثيرات المتنوع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أنماط الطلاب المنصرفين عن الدر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الطلاب غير المستمع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نتظرون عقلي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توقعو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طلاب غير المتابعين (الملاحقي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هيئ البيئة الصفية الفيزيقية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فرغ أدمغة الطلاب مما قد يشغلهم عن 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-يهيئ الطلاب  ل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يعمل على أن يتعلم الطلاب المعلومات بشكل منظم ومتتابع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سعى ان يفهم طلابه ما يتعلمون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– يقدم المادة العلمية بصورة مشوقة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ظهر حماسا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2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أسباب تشتت الانتباه لدى الطلاب غير المست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قد ينصرف الطالب عن الدرس بسب المشكلات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الشخصية – الاجتماعية- الصفية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طبيعة النمو في مرحلة المراهقة من 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) س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وضوح صوت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الإجهاد الذه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مظاهر التعب البد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لتكرار الممل من جانب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رض الدرس بطريقة مملة لا تناسب مستوى الطلاب واهتمام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تنظيم البيئة الفيزيقية (المادية)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أثاث – أجهزة – تهوية - إضاء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ظر إلى الطلاب دوما أثناء التدريس (التواصل البصر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يتحرك بشكل مناسب في غرفة الص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إشارات (الإيماءات) الجسدية و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be0e3"/>
                </a:solidFill>
                <a:latin typeface="Arial"/>
              </a:rPr>
              <a:t>يغير من نبرات الصوت وشدته ونوعيته ويتحدث بسرعة مناسبة 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صمت برهة أثناء الحديث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اليب التركيز بشكل مناس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وظف الأسئلة بشكل ج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أنشطة الص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أنماط الاتصا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وع من أشكال استقبال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يأتي ببعض المعلومات الإضافية المناسبة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ماء الطلاب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يستخدم الفكاهة في التدريس 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هارات طرح الأسئلة التنفيذية (الشفه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استنتاج أهمية الأسئلة الصفية الشفه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غراضهــــــ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نتاج العلاقة بين هذه المهارة وتحقيق الأهداف التعليم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السؤال الص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جملة استفهامية أو ط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توجه إلى الطالب أو عدة طلاب بغرض استجلاء إجابة لفظية أو لفت انتباههم لأمر معين أثناء الدرس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Arial"/>
                <a:cs typeface="PT Bold Heading"/>
              </a:rPr>
              <a:t>تعرف </a:t>
            </a:r>
            <a:r>
              <a:rPr b="0" lang="ar-SA" sz="3200" spc="-1" strike="noStrike" u="sng">
                <a:solidFill>
                  <a:srgbClr val="003300"/>
                </a:solidFill>
                <a:uFillTx/>
                <a:latin typeface="Arial"/>
                <a:cs typeface="PT Bold Heading"/>
              </a:rPr>
              <a:t>مهارات التدريس</a:t>
            </a:r>
            <a:r>
              <a:rPr b="0" lang="ar-SA" sz="3200" spc="-1" strike="noStrike">
                <a:solidFill>
                  <a:srgbClr val="003300"/>
                </a:solidFill>
                <a:latin typeface="Arial"/>
                <a:ea typeface="PT Bold Heading"/>
              </a:rPr>
              <a:t>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القدرة على أداء نشاط معين ذي علا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PT Bold Heading"/>
              </a:rPr>
              <a:t>( بتخطيط التدريس , تنفيذه , تقوي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وهذا النشاط قابل للتحليل إلى مجموعة من السلوكيات (الأداءات):   </a:t>
            </a:r>
            <a:r>
              <a:rPr b="0" lang="ar-SA" sz="3200" spc="-1" strike="noStrike">
                <a:solidFill>
                  <a:srgbClr val="333300"/>
                </a:solidFill>
                <a:latin typeface="Arial"/>
                <a:ea typeface="PT Bold Heading"/>
              </a:rPr>
              <a:t>( المعرفية – المهارية – الوجدان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ea typeface="PT Bold Heading"/>
              </a:rPr>
              <a:t> ومن ثم يمكن تقييمه بحسب معايير الد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في القيام به وسرعة إنجاز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طرح 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هي مجموعة من السلوكيات التدريسية التي يقوم بها المعلم بدقة وسرعة (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بكفاء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) وبقدرة على التكيف مع معطيات الموقف التدريسي 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مهارات طرح الأسئلة الصفية الشفه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عداد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ختيار الطالب المج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ستماع إلى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سماع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عالجة إجابات الطلا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شجيع الطلاب على توليد الأسئلة وتوجيه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تعامل مع أسئلة الطلا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هارات طرح الأسئلة التنفيذية (الشفه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السلوكيات المكونة لمهارة ( </a:t>
            </a:r>
            <a:r>
              <a:rPr b="1" lang="ar-SA" sz="3600" spc="-1" strike="noStrike">
                <a:solidFill>
                  <a:srgbClr val="99ccff"/>
                </a:solidFill>
                <a:latin typeface="Arial"/>
              </a:rPr>
              <a:t>توجيه السؤال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نظم جلوس الطلاب في شكل حلقة أو في شكل حدوة الحص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ختار الوقت المناسب لتوجيه السؤ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- يوجه السؤال بلغة بسيطة ومفهومة ومباشر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لقي السؤال بحماس وود وتشجيع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لقي السؤال بالسرعة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توجه بالسؤال لجميع الطلاب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نوع من أساليب توزيع الأسئلة على الطل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شجع جميع الطلاب على المشاركة في الإجا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ff66"/>
                </a:solidFill>
                <a:latin typeface="Arial"/>
              </a:rPr>
              <a:t>يوجه الطلاب إلى أهمية التأني قبل طلب الإجابة عن السؤال</a:t>
            </a:r>
            <a:r>
              <a:rPr b="0" lang="ar-SA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لانتظار عقب طرح السؤا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تظر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ثانية بعد طرح السؤ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يوجه نظره إلى كافة الطلاب ويتاب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ي إشارات جسدية تصدر عن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ختيار الطالب المج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يتريث قبل اختيار الطالب المج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يعمل على مشاركة أكبر عدد ممكن من الطلاب في الإجاب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ادي على الطالب المجيب باسم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e701"/>
                </a:solidFill>
                <a:latin typeface="Arial"/>
              </a:rPr>
              <a:t>الاستماع للإجاب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الإجابات الج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عطي فرصة للطالب لإكمال إجابته ولا يقاط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مقاطعة الطالب المجيب من قبل زملائه 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ظر باهتمام للطالب المجي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يسجل إجابة الطالب المجيب على السب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hi-IN" sz="4000" spc="-1" strike="noStrike">
                <a:solidFill>
                  <a:srgbClr val="009999"/>
                </a:solidFill>
                <a:latin typeface="Arial"/>
              </a:rPr>
              <a:t>الشفهي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انتظار قبل التعقيب على الإجاب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نتظر (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) قبل التعقيب على الإجاب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سمح للطالب المجيب بمراجعة إجابته والإضا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وجه الطلاب للتفكير في إجابة زميله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معالجة إجابات الطلا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لا يتجاهل إجابة أيّ طال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لا يتسرع في إجابة السؤال الذي طرحه عل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يعزز إجابات الطالب بالعبارات والإشا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- يستخدم وسائل الحض أو الدفع ( إعادة الصياغة – التبسيط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27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- لا يستخدم عبارات محبطة أو ساخرة تعليقا على إجابات الطل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</a:rPr>
              <a:t>السلوكيات المكونة لمها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تشجيع الطلاب على طرح الأسئ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-  يبدي حماسا للطالب الذي يطرح سؤالا جيد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29</a:t>
            </a: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- يستخدم أساليب متنوعة لتشجيع الطلاب على طرح الأسئ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يوضح للطلاب من حين لآخر كيفية صياغة الأسئلة بشكل علمي مفهو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00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تعامل مع أسئلة الطل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31-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لا يهمل التعامل مع سؤال أي طالب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32-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ينوع من أنماط الاستجابة لسؤال الطالب بحسب متغيرات الموقف التعليمي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دريس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خطي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0000"/>
                </a:solidFill>
                <a:uFillTx/>
                <a:latin typeface="Arial"/>
                <a:cs typeface="Monotype Koufi"/>
              </a:rPr>
              <a:t>مهار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نفيذ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تهيئة الحافز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استحواذ على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طرح الأسئل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ستخدام الوسائل والتقنيات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9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حفظ والتسميع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كم عدد أشهر السن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ألوان الطي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تى فتح العرب الأندلس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ين يتقاطع قطرا المستقيم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علامة رفع الأسماء الخمس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نعم / لا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صلاة الركن الثاني من أركان الإ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. 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لأسماك خياشيم تتنفس بها 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ليست ( صار) من أخوات ك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ته لا تنمي التفكير؛ لأنها توحي للطلاب بالإجابة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الإجابة الجماع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ا عاصمة دولة اليابا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يا شبا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ما أول سورة نزلت على النبي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Simplified Arabic"/>
              </a:rPr>
              <a:t>صلى الله عليه وسلم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يا أبنائ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لأنها توحي للطلاب بالإجابة الجماعية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علم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 ( الهلامي 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من يحدثنا عن الطائرا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قل لي يا أحمد شيئا ع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صوم في رمضا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خبروني عن جغرافية دولة البحر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إنها أسئلة غير محددة (فضفاضة) لا يتضح للطلاب الغرض منها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215640"/>
            <a:ext cx="8820360" cy="63817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 )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ffff"/>
                </a:solidFill>
                <a:uFillTx/>
                <a:latin typeface="Arial"/>
                <a:cs typeface="Simplified Arabic"/>
              </a:rPr>
              <a:t>مهارة</a:t>
            </a: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Simplified Arabic"/>
              </a:rPr>
              <a:t>التهيئة الحافز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raditional Arabic"/>
              </a:rPr>
              <a:t>يتوقع من المتدرب بعد إتمام المناشط التدريبية  أن يكون قادرا ع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مقصود بمفهوم التهيئة الحافزة للطلاب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أهداف الرئيسة لعملية التهيئة الحافز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علاقة بين هذه المهارة وتحقيق الأهداف التعليم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أساليب المتعددة لاستخدام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سلوكيات المكونة لهذه المه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أدية هذه المهارة باستخدام أسلوب تمثيل الأدوار 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 أ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ما يقوله المعلم أو يفعله أو يوجه به الطلاب قبيل بدء تعلم درس جديد بغرض إعداد الطل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عقل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وجدان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جسم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لتعلم هذا الدرس وجعلهم في حالة قوامها الاستعداد للت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Simplified Arabic"/>
              </a:rPr>
              <a:t>( ب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Arial"/>
                <a:cs typeface="Simplified Arabic"/>
              </a:rPr>
              <a:t>مجموعة السلوكيات ( الأداءات ) التي يقوم بها المعلم بدقة وسرعة وبقدرة تمكنه من التكيف مع معطيات المواقف التدريسية في مستهل تعلم الطلاب للدرس الجديد أو أحد عناصره قاصدا وضعهم في حالة استعداد للتعلم </a:t>
            </a: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  <a:cs typeface="Monotype Koufi"/>
              </a:rPr>
              <a:t>أهداف عملية التهيئة الحافز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-تركيز انتباه الطلاب على موضوع الدرس الجد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تزويد الطلاب بما هو متوقع منهم أن يتعلموه وما سوف يحققونه من 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تحفيز ما لدى الطلاب من متطلبات التعلم المسبقة  واستدعاؤها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تزويدهم بإطار عام تنظيمي لما سوف يتضمنه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من نقا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haghr 5 Hor.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أو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طرح الأسئلة التحفي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ني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Thaghr 5 Hor."/>
              </a:rPr>
              <a:t>الطرائف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لث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حكي القص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راب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عرض الأحداث الجا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خام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ممارسة الطلاب للأنشطة الاستقصائ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د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تقديم بعض الآيات القرآنية أو الأحاديث    النبوية أو الأقوال المأثو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ب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إعلامهم بما هو متوقع منهم أن يتعلموه                   في الدرس أو يحققوه من أهد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ثام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ربط الدرس السابق بالدرس الحا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0:54:22Z</dcterms:created>
  <dc:creator>محمد الردادي </dc:creator>
  <dc:description/>
  <dc:language>en-US</dc:language>
  <cp:lastModifiedBy>sa</cp:lastModifiedBy>
  <dcterms:modified xsi:type="dcterms:W3CDTF">2007-01-06T22:19:01Z</dcterms:modified>
  <cp:revision>54</cp:revision>
  <dc:subject/>
  <dc:title>الشريحة 1</dc:title>
</cp:coreProperties>
</file>